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614185"/>
        <c:axId val="9395977"/>
      </c:barChart>
      <c:catAx>
        <c:axId val="886141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95977"/>
        <c:crosses val="autoZero"/>
        <c:auto val="1"/>
        <c:lblAlgn val="ctr"/>
        <c:lblOffset val="100"/>
        <c:noMultiLvlLbl val="0"/>
      </c:catAx>
      <c:valAx>
        <c:axId val="93959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6141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4372-A0F9-45A8-83B7-AA4F5F3C9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982F-C10F-40AD-818A-2139F62C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471E-27DD-44BC-89D9-E180E0635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1022-DD3D-4226-8854-6AEEC979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9C76-9590-44C8-A6AC-CDC20055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FC7C-0AA0-40A1-A5C7-AE076D4F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6142-A1AE-42F2-BE8A-559F0305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1543-2F2A-4B1D-BF34-7B2D4F9C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2F4E-1F5C-4C42-AA14-19F15029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9EAB-66D5-42A8-AE7E-43A5EE06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8B74-5F0B-4EB5-8991-DD193701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D171-7FBC-48D5-BE55-657F8E5A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DCF2DD-A6C9-457D-8CD3-3AA7D1858E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