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04962"/>
        <c:axId val="57983794"/>
      </c:barChart>
      <c:catAx>
        <c:axId val="21704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83794"/>
        <c:crosses val="autoZero"/>
        <c:auto val="1"/>
        <c:lblAlgn val="ctr"/>
        <c:lblOffset val="100"/>
        <c:noMultiLvlLbl val="0"/>
      </c:catAx>
      <c:valAx>
        <c:axId val="57983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04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071-8BCE-49F0-AC53-56B6153B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0A6-62CC-47EC-8BB3-7A483ED2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4ED-4637-467F-BB54-C46660B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BED-B626-43F7-8411-7B4BA306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5BA-7EA6-4C47-B2C5-5AA1EA9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F04-475E-45E0-B667-6B311F1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294-E431-4A76-9377-6C719CA2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6F6-A427-415B-A8F6-BD382D1E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742-3166-4224-AF37-CF532D1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3A9-5213-4A16-BF17-C348792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840-A4E4-4F6C-8714-66B1E3C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C27-9670-41DB-875C-9F46680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320C2-FCFB-4160-92C0-6499EEDE5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