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93827"/>
        <c:axId val="59939084"/>
      </c:barChart>
      <c:catAx>
        <c:axId val="63093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39084"/>
        <c:crosses val="autoZero"/>
        <c:auto val="1"/>
        <c:lblAlgn val="ctr"/>
        <c:lblOffset val="100"/>
        <c:noMultiLvlLbl val="0"/>
      </c:catAx>
      <c:valAx>
        <c:axId val="599390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93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A67-550E-4945-BFE5-637AB26A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0C2-E2A9-4AB2-A5D0-40F7CF6F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9FD-E909-4C8D-9105-C5607588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CC9-169B-4DFB-8596-BE33A75C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491-1E78-4409-B2CC-B3C79C84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707-472A-467F-921C-B7CCFB21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D57-A3F8-4149-B3F6-3545CE7B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ABA-32EE-4C32-A2BC-FDD33F1F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8D7-1B7A-484E-9D96-68B293A9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C84-B752-4114-84D1-81FE0968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F98-0A91-4D64-8905-9B0582FE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B4E4-45D1-4D31-AD14-C8B9C1BC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5CA39-D211-43FD-8D47-73DAB2B119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