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25135"/>
        <c:axId val="27692601"/>
      </c:barChart>
      <c:catAx>
        <c:axId val="12325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92601"/>
        <c:crosses val="autoZero"/>
        <c:auto val="1"/>
        <c:lblAlgn val="ctr"/>
        <c:lblOffset val="100"/>
        <c:noMultiLvlLbl val="0"/>
      </c:catAx>
      <c:valAx>
        <c:axId val="27692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5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1D5-83A8-4DF2-9C50-E0FB00DA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D4D-107E-4A05-8CE1-9CC90CA6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D49-5396-4A92-9136-279BDED2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DB6-85BC-4CEC-BA65-8B67CEB8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746-3688-4E41-BE4D-19B285B7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1CD-9203-48F1-B115-C963D37E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BFD-E598-4BBD-B087-167AA61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A6B-43DC-4A9A-A434-0D0C87FF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13A-72E4-4FE1-AC61-D6EFC0C2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D00-FB1A-4333-80EE-14D2844B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CB0-5D41-4386-B694-D39D871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95C-3473-4336-940F-5087354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C651E-51CD-40E0-9728-026B5B68A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