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07768"/>
        <c:axId val="17340290"/>
      </c:barChart>
      <c:catAx>
        <c:axId val="658077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40290"/>
        <c:crosses val="autoZero"/>
        <c:auto val="1"/>
        <c:lblAlgn val="ctr"/>
        <c:lblOffset val="100"/>
        <c:noMultiLvlLbl val="0"/>
      </c:catAx>
      <c:valAx>
        <c:axId val="17340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077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7DF-0EFA-4D0D-898B-DBD17B09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2A8-F982-4671-B136-53DA939E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919-8C2A-45A7-8AE4-FC913103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114-337D-4211-BAF9-90FA5985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16F-BA5E-4D4B-B33A-B21E6F13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C84-8297-4E78-ABA5-1EEE9C40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863A-A2C1-4CA3-802E-082B4023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6EA-8385-4D99-8B3F-44C4F069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382-38E7-4FF8-85AC-A6148422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7492-195D-4EBC-8689-1B148854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BAD-5335-4A97-AE19-49D72310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5872-32AD-48C1-B2F5-B4D39BCA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1EBF3-5EF6-42D9-AAAB-AC32E95DFE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