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0333090"/>
        <c:axId val="8250838"/>
      </c:barChart>
      <c:catAx>
        <c:axId val="7033309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50838"/>
        <c:crosses val="autoZero"/>
        <c:auto val="1"/>
        <c:lblAlgn val="ctr"/>
        <c:lblOffset val="100"/>
        <c:noMultiLvlLbl val="0"/>
      </c:catAx>
      <c:valAx>
        <c:axId val="825083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33309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95324-C23E-4EDF-BA9B-0D18CD0AE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77237-8D08-4550-9815-C72FA7C34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768ED-93DE-4EFC-AAFC-215B26C47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A6F0A-834C-4E65-A918-C4215C0B6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2037F-0796-4CF4-80BC-E56C4119F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B66DF-2266-4EDA-8E43-A05E0A2A6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FD86E-F22C-49B3-8862-ECD73E856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4E67D-BF2F-4616-B005-0F58E5282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C1DDF-4AD3-4ACA-81BD-2CA3AD5DA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C00E5-7CC2-47DF-AFCE-87148DB20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58D08-48CA-4A38-ACEB-0508803DE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F94D7-BA98-46F2-9430-03BD3F9A5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CDA653-FE70-49A1-9686-D1A7C26AE9A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